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1852-88DB-482C-8B8E-25CF137FD0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557-D72F-493A-B52A-29CB4A2C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D087-2333-4B7B-892D-DEBAC3B6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F5C0-53FA-45DA-BBBA-1D6A6671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BB3-7292-4C23-990B-8D8422E0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0D95-A355-4AB0-BA41-2A31EE05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9003-1954-4E44-BCEF-4A7F242C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964F-E9CD-402F-8253-D527EA86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ACE7-131C-44A7-BC37-8317752E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BE65-3EE6-418B-86E9-EEA358D6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1408-C095-4246-A445-681DDE7E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14AA-E797-4578-AFE0-E2529BF8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8E5C-4214-4FB4-86EA-888A57C6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9B2D-DBD2-4A2C-B469-87A125EF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7E1E-0415-4D87-91D3-5C70CA3E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462B-87E5-489B-8D70-EA8B118B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C666-0503-426C-8F83-1CFA2118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30F2-D193-4B55-B676-ED4BC9CC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F8156-7FC9-483A-931C-14922A44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BD30C-CBDF-4332-AB01-066E4A9A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77151-25A9-4470-857D-FB9EBB42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DD3E1-C21E-40C4-95BD-77D2C619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8F247-4422-484C-A1B9-6C9448B0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254-701D-42D6-9E8A-8552AADE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29CE5-A247-474C-ACFC-57A62E8C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8949A-97C3-452C-80E9-0FC9E4EA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B49AA-BDA6-4977-9DAC-09AC2E02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CCAAD-FFF3-44BD-8E36-5160D0EF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43DA1-63E2-4A8B-9848-FD527229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A70A-612C-4A91-87C4-C305BA2B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8452C-05FB-4E04-BF8C-0F50F992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7549B-701E-4B7B-ADF0-05B177BE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0841B-4E91-41BB-863B-9EB8CA73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765C8-CA0B-4421-972D-CE7BCCFD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0904-1901-40E4-A59A-B2D5ACBB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64797-0B69-4CE6-ABAE-0EB57B67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9735E-A45D-4ABB-9A18-F4B25995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10EAF-530E-4A08-9410-D4DBDE0E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2798F-3094-4ADB-9F60-9273EFB0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83910-BD9F-4A0E-9666-98A5B801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F2996-A134-439F-A0DA-2D8D6914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23041-3500-4DA7-AFE4-2C1B7203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D2CB6-A405-4D3E-9C05-DC28F79B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B6E6C-D296-45B0-838D-1A779B2C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61A80-AA9D-417C-99C8-5F63FF73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26C-CB87-4CAE-BCF2-82D495B9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3E79B-4392-4E1F-BCAF-84F319A1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2E2B1-1A87-40E1-BD7B-CE0B7FCC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19370-2CCF-4CB6-8159-FCD45DA0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C24A1-C2F6-408C-918A-FC47F747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E6465-2430-44AE-A0CB-57534CAC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420BF-832D-40B4-BD05-04828922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E80E7-5BAF-474D-A0EB-6CAC2C8A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5816B-9DC4-40D2-B856-480B42C3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76F39-6B90-4513-9F78-064AD03E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B5625-075A-4EF1-98B5-DEC9B85C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B7F-1BBC-42DB-BBE9-D861DAEC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AB83B-4F76-4980-8829-A876AFA7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7E2-031D-449A-BBBD-83DF544B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89E9-49E5-4D9B-82D8-76C0128C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395-EBD4-48B4-9440-F84F45B9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61FB-EE79-427F-B18A-A1749C1C95A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5E34-86A2-4E56-A4C6-30806D5D363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3BAC-A308-4DD7-B4EB-34B1CC55397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4DB0-CF28-4FA8-AE2E-D514B6AFCD0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6081-0F45-4917-87DB-4A50F8CC0D7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1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89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2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0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5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7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0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20840" y="433440"/>
            <a:ext cx="5924520" cy="43466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9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4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59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4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69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1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896760" y="593640"/>
            <a:ext cx="3353040" cy="5197680"/>
          </a:xfrm>
          <a:prstGeom prst="rect">
            <a:avLst/>
          </a:prstGeom>
          <a:ln w="0">
            <a:noFill/>
          </a:ln>
        </p:spPr>
      </p:pic>
      <p:pic>
        <p:nvPicPr>
          <p:cNvPr id="276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RomaK</cp:lastModifiedBy>
  <dcterms:modified xsi:type="dcterms:W3CDTF">2015-09-04T09:35:03Z</dcterms:modified>
  <cp:revision>21</cp:revision>
  <dc:subject/>
  <dc:title>Slide 1</dc:title>
</cp:coreProperties>
</file>